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858A7B-51B5-47FD-BAFC-4624BCE389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363E4-8AAB-488F-82EA-EF8C12844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B779B4-AF54-41C6-BC46-F1A59F75D5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50E45D-46B1-4997-85D5-0FEC130C11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401080-E8FE-4F29-84A8-D89C5EEAB0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F41E1E-1260-464A-8BED-64ACDF9060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69B11E-CB3B-4A0D-932A-BA054808C0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6E1F0E-0029-4FD7-910A-F7CC872B3B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F71DF0-1B84-4DE4-BB3D-EC216CBA26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F0D56D-08A1-413E-9D1B-3E99D60870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047410-741B-4A98-B91E-D69E58B5C9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12A9D-3EB0-4233-921F-5F39ADD59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1B1634-9003-46A5-9A4A-F041B1226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3C8AE3-5C15-40F4-BC71-6D8FB1EF7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FB49A0-3624-475C-846B-43C9C47AA8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77430A-1DEE-49E4-B6EA-9C73EB9AC4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0A10C6-149C-44D0-9038-EBD864BAE3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82447-493B-4999-8934-6F0587F1E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5FF52-5001-421B-B06E-16E42DBEF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E9899-880C-4F43-A1CD-EE12478F6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43AF2-776D-4735-AF8C-E0C3B7249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7B694-12D9-4C23-A168-D29C5C0DD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A8001-C936-423C-A655-865A10891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CE60E-0629-4322-981A-B421E5DC41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58A97-31B1-48FD-995A-A3EF6785D358}"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E3238-AFF4-4861-83B9-67AC9802BEA2}"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annefrank.org/content.asp?pid=2&amp;lid=2" TargetMode="External"/><Relationship Id="rId2" Type="http://schemas.openxmlformats.org/officeDocument/2006/relationships/hyperlink" Target="http://www.ushmm.org/wlc/article.php?ModuleId=10005210"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838080" y="2742840"/>
            <a:ext cx="7772400" cy="146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ahoma"/>
              </a:rPr>
              <a:t>Anne Frank</a:t>
            </a:r>
            <a:br>
              <a:rPr sz="8000"/>
            </a:br>
            <a:r>
              <a:rPr b="0" lang="en-US" sz="1200" spc="-1" strike="noStrike">
                <a:solidFill>
                  <a:srgbClr val="ffffcc"/>
                </a:solidFill>
                <a:latin typeface="Tahoma"/>
              </a:rPr>
              <a:t>http://www.sptimes.com/News/040500/photos/nie-anne.jpg</a:t>
            </a:r>
            <a:endParaRPr b="0" lang="en-US" sz="1200" spc="-1" strike="noStrike">
              <a:solidFill>
                <a:srgbClr val="ffffcc"/>
              </a:solidFill>
              <a:latin typeface="Tahom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repl">
                                        <p:cTn id="7" dur="500" fill="hold"/>
                                        <p:tgtEl>
                                          <p:spTgt spid="89"/>
                                        </p:tgtEl>
                                        <p:attrNameLst>
                                          <p:attrName>ppt_w</p:attrName>
                                        </p:attrNameLst>
                                      </p:cBhvr>
                                      <p:tavLst>
                                        <p:tav tm="0">
                                          <p:val>
                                            <p:fltVal val="0"/>
                                          </p:val>
                                        </p:tav>
                                        <p:tav tm="100000">
                                          <p:val>
                                            <p:strVal val="#ppt_w"/>
                                          </p:val>
                                        </p:tav>
                                      </p:tavLst>
                                    </p:anim>
                                    <p:anim calcmode="lin" valueType="num">
                                      <p:cBhvr additive="repl">
                                        <p:cTn id="8" dur="500" fill="hold"/>
                                        <p:tgtEl>
                                          <p:spTgt spid="8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Poor Richard"/>
              </a:rPr>
              <a:t>Who is Anne Frank?</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oor Richard"/>
              </a:rPr>
              <a:t>Anne Frank is a famous Jewish child that survived the holocaust,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oor Richard"/>
              </a:rPr>
              <a:t>She was born June 12 1929</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oor Richard"/>
              </a:rPr>
              <a:t>Her death took place in 1945</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Poor Richard"/>
              </a:rPr>
              <a:t>When did this all happen</a:t>
            </a:r>
            <a:br>
              <a:rPr sz="4000"/>
            </a:br>
            <a:r>
              <a:rPr b="0" lang="en-US" sz="4000" spc="-1" strike="noStrike">
                <a:solidFill>
                  <a:srgbClr val="ffffcc"/>
                </a:solidFill>
                <a:latin typeface="Poor Richard"/>
              </a:rPr>
              <a:t> (When she went into hiding)</a:t>
            </a:r>
            <a:endParaRPr b="0" lang="en-US" sz="40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oor Richard"/>
              </a:rPr>
              <a:t>During the holocaust of 1942</a:t>
            </a:r>
            <a:endParaRPr b="0" lang="en-US" sz="3200" spc="-1" strike="noStrike">
              <a:solidFill>
                <a:srgbClr val="ffffff"/>
              </a:solidFill>
              <a:latin typeface="Tahoma"/>
            </a:endParaRPr>
          </a:p>
        </p:txBody>
      </p:sp>
      <p:pic>
        <p:nvPicPr>
          <p:cNvPr id="94" name="" descr=""/>
          <p:cNvPicPr/>
          <p:nvPr/>
        </p:nvPicPr>
        <p:blipFill>
          <a:blip r:embed="rId1"/>
          <a:stretch/>
        </p:blipFill>
        <p:spPr>
          <a:xfrm>
            <a:off x="1905120" y="2971800"/>
            <a:ext cx="4457520" cy="2760840"/>
          </a:xfrm>
          <a:prstGeom prst="rect">
            <a:avLst/>
          </a:prstGeom>
          <a:ln w="0">
            <a:noFill/>
          </a:ln>
        </p:spPr>
      </p:pic>
      <p:sp>
        <p:nvSpPr>
          <p:cNvPr id="95" name=""/>
          <p:cNvSpPr/>
          <p:nvPr/>
        </p:nvSpPr>
        <p:spPr>
          <a:xfrm>
            <a:off x="1887120" y="5791320"/>
            <a:ext cx="4150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http://brokenworld.wikispaces.com/file/view/nazi_sign.JPG/30582486/nazi_sign.JPG</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Poor Richard"/>
              </a:rPr>
              <a:t>Why did this happen</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oor Richard"/>
              </a:rPr>
              <a:t>Because during the holocaust the Germans were sending the Jewish people to concentration camps and not only Anne, but other Jewish people also went into hiding any place where Germans wouldn’t find them</a:t>
            </a:r>
            <a:endParaRPr b="0" lang="en-US" sz="3200" spc="-1" strike="noStrike">
              <a:solidFill>
                <a:srgbClr val="ffffff"/>
              </a:solidFill>
              <a:latin typeface="Tahoma"/>
            </a:endParaRPr>
          </a:p>
          <a:p>
            <a:pPr marL="335880" indent="-3358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oor Richard"/>
              </a:rPr>
              <a:t>Under floor boards, behind walls, sewers, anne a room behind a book shelf in her hous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Poor Richard"/>
              </a:rPr>
              <a:t>Anne’s house (blue)</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0" name="" descr=""/>
          <p:cNvPicPr/>
          <p:nvPr/>
        </p:nvPicPr>
        <p:blipFill>
          <a:blip r:embed="rId1"/>
          <a:stretch/>
        </p:blipFill>
        <p:spPr>
          <a:xfrm>
            <a:off x="2590920" y="1828800"/>
            <a:ext cx="3714480" cy="390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Poor Richard"/>
              </a:rPr>
              <a:t>The impact Anne Had</a:t>
            </a:r>
            <a:endParaRPr b="0" lang="en-US" sz="44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oor Richard"/>
              </a:rPr>
              <a:t>She became a famous Jew who had survived the Holocaust, yes like many other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oor Richard"/>
              </a:rPr>
              <a:t>But she only became famous through her entries in her diary she kept while hid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itation</a:t>
            </a:r>
            <a:endParaRPr b="0" lang="en-US" sz="4400" spc="-1" strike="noStrike">
              <a:solidFill>
                <a:srgbClr val="ffffcc"/>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66"/>
                </a:solidFill>
                <a:uFillTx/>
                <a:latin typeface="Tahoma"/>
                <a:hlinkClick r:id="rId1"/>
              </a:rPr>
              <a:t>http://www.annefrank.org/content.asp?pid=2&amp;lid=2</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66"/>
                </a:solidFill>
                <a:uFillTx/>
                <a:latin typeface="Tahoma"/>
                <a:hlinkClick r:id="rId2"/>
              </a:rPr>
              <a:t>http://www.ushmm.org/wlc/article.php?ModuleId=10005210</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2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http://bristol.indymedia.org/attachments/apr2009/anne_franks_diary_compressed__afs_amsterdam__aff_basel_reproduced_by_permission_of_the_anne_frank_trust_uk.jpg</a:t>
            </a:r>
            <a:endParaRPr b="0" lang="en-US" sz="1000" spc="-1" strike="noStrike">
              <a:solidFill>
                <a:srgbClr val="ffffff"/>
              </a:solidFill>
              <a:latin typeface="Tahoma"/>
            </a:endParaRPr>
          </a:p>
        </p:txBody>
      </p:sp>
      <p:pic>
        <p:nvPicPr>
          <p:cNvPr id="107" name="" descr=""/>
          <p:cNvPicPr/>
          <p:nvPr/>
        </p:nvPicPr>
        <p:blipFill>
          <a:blip r:embed="rId1"/>
          <a:stretch/>
        </p:blipFill>
        <p:spPr>
          <a:xfrm>
            <a:off x="5334120" y="2514600"/>
            <a:ext cx="3200400" cy="3333600"/>
          </a:xfrm>
          <a:prstGeom prst="rect">
            <a:avLst/>
          </a:prstGeom>
          <a:ln w="0">
            <a:noFill/>
          </a:ln>
        </p:spPr>
      </p:pic>
      <p:pic>
        <p:nvPicPr>
          <p:cNvPr id="108" name="" descr=""/>
          <p:cNvPicPr/>
          <p:nvPr/>
        </p:nvPicPr>
        <p:blipFill>
          <a:blip r:embed="rId2"/>
          <a:stretch/>
        </p:blipFill>
        <p:spPr>
          <a:xfrm>
            <a:off x="838080" y="2133720"/>
            <a:ext cx="2857680" cy="3695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4T15:02:22Z</dcterms:created>
  <dc:creator>41323</dc:creator>
  <dc:description/>
  <dc:language>en-US</dc:language>
  <cp:lastModifiedBy>41323</cp:lastModifiedBy>
  <dcterms:modified xsi:type="dcterms:W3CDTF">2009-12-14T15:04:17Z</dcterms:modified>
  <cp:revision>5</cp:revision>
  <dc:subject/>
  <dc:title>Anne Frank </dc:title>
</cp:coreProperties>
</file>